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7772400" cy="10058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527FF-D209-4454-A3C9-501104491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8800" y="402840"/>
            <a:ext cx="69948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8800" y="2346120"/>
            <a:ext cx="6994800" cy="31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8800" y="5814000"/>
            <a:ext cx="6994800" cy="31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565FC-00B4-4851-A821-0C615CE09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8800" y="402840"/>
            <a:ext cx="69948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8800" y="2346120"/>
            <a:ext cx="3413160" cy="31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972960" y="2346120"/>
            <a:ext cx="3413160" cy="31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8800" y="5814000"/>
            <a:ext cx="3413160" cy="31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972960" y="5814000"/>
            <a:ext cx="3413160" cy="31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3693F-17C4-493E-9A2A-18259BEBD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8800" y="402840"/>
            <a:ext cx="69948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8800" y="2346120"/>
            <a:ext cx="2252160" cy="31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754000" y="2346120"/>
            <a:ext cx="2252160" cy="31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119200" y="2346120"/>
            <a:ext cx="2252160" cy="31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8800" y="5814000"/>
            <a:ext cx="2252160" cy="31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754000" y="5814000"/>
            <a:ext cx="2252160" cy="31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119200" y="5814000"/>
            <a:ext cx="2252160" cy="31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F5BF9-594B-4425-8989-A8CAC0A0E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8800" y="402840"/>
            <a:ext cx="69948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8800" y="2346120"/>
            <a:ext cx="6994800" cy="66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A33D8-0CBE-4A6F-8677-5AB5EA679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8800" y="402840"/>
            <a:ext cx="69948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8800" y="2346120"/>
            <a:ext cx="6994800" cy="663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54157-D4FB-4460-862D-0B53AA1FC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8800" y="402840"/>
            <a:ext cx="69948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8800" y="2346120"/>
            <a:ext cx="3413160" cy="663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972960" y="2346120"/>
            <a:ext cx="3413160" cy="663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E6127-CF54-466A-9344-5AFBF5D8C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8800" y="402840"/>
            <a:ext cx="69948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4315D-B6FF-4A7B-924E-FB6D147BC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8800" y="402840"/>
            <a:ext cx="699480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332B0-BA76-43B9-9C78-D1470D900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8800" y="402840"/>
            <a:ext cx="69948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8800" y="2346120"/>
            <a:ext cx="3413160" cy="31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972960" y="2346120"/>
            <a:ext cx="3413160" cy="663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8800" y="5814000"/>
            <a:ext cx="3413160" cy="31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ECB00-4738-43EB-936A-50CBD5441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8800" y="402840"/>
            <a:ext cx="69948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8800" y="2346120"/>
            <a:ext cx="3413160" cy="663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972960" y="2346120"/>
            <a:ext cx="3413160" cy="31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972960" y="5814000"/>
            <a:ext cx="3413160" cy="31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A5948-3658-417E-ACC7-644C049CD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8800" y="402840"/>
            <a:ext cx="69948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8800" y="2346120"/>
            <a:ext cx="3413160" cy="31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972960" y="2346120"/>
            <a:ext cx="3413160" cy="31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8800" y="5814000"/>
            <a:ext cx="6994800" cy="31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EED3B-FA93-465A-B8FD-2365A9C59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8800" y="402840"/>
            <a:ext cx="69948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8800" y="2346120"/>
            <a:ext cx="6994800" cy="663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8800" y="9159840"/>
            <a:ext cx="181296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55720" y="9159840"/>
            <a:ext cx="246096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570640" y="9159840"/>
            <a:ext cx="181296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F2A54-7439-4B53-A148-7E3B454618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228600" y="152280"/>
            <a:ext cx="7315200" cy="771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ctivities: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ction 1-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Supplementary Angles – 2 or more angles whose measures add up to 180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raw an example of a pair of supplementary ang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raw an example of a set of 3 supplementary ang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f you put supplementary angles together, then they form a ______________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plementary Angles – 2 or mores angles whose measures add up to 90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aw an example of a pair of complementary ang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aw an example of a set of 3 complementary ang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put complementary angles together, then they form a _________________________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Adjacent Angles – 2 angles that are next to each other; they have exactly one ray and a vertex in comm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aw an example of adjacent angles that are not complementary or supplementa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Linear Pair – 2 supplementary, adjacent ang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aw an example of a linear pai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se the figure to answer the following True or False ques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ollowing are examples of supplementary angl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4 &amp; &lt;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22 &amp; &lt;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13, &lt;11, and &lt;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1 &amp; &lt;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ollowing are examples of complementary angl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14 &amp; &lt;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22 &amp; &lt;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Group 46"/>
          <p:cNvGrpSpPr/>
          <p:nvPr/>
        </p:nvGrpSpPr>
        <p:grpSpPr>
          <a:xfrm>
            <a:off x="152280" y="7054920"/>
            <a:ext cx="7467480" cy="3003120"/>
            <a:chOff x="152280" y="7054920"/>
            <a:chExt cx="7467480" cy="3003120"/>
          </a:xfrm>
        </p:grpSpPr>
        <p:sp>
          <p:nvSpPr>
            <p:cNvPr id="43" name="Line 47"/>
            <p:cNvSpPr/>
            <p:nvPr/>
          </p:nvSpPr>
          <p:spPr>
            <a:xfrm flipV="1">
              <a:off x="152280" y="7250400"/>
              <a:ext cx="7344000" cy="119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Line 48"/>
            <p:cNvSpPr/>
            <p:nvPr/>
          </p:nvSpPr>
          <p:spPr>
            <a:xfrm flipV="1">
              <a:off x="275400" y="8309520"/>
              <a:ext cx="7344360" cy="119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" name="Group 49"/>
            <p:cNvGrpSpPr/>
            <p:nvPr/>
          </p:nvGrpSpPr>
          <p:grpSpPr>
            <a:xfrm>
              <a:off x="625320" y="7054920"/>
              <a:ext cx="6680520" cy="3003120"/>
              <a:chOff x="625320" y="7054920"/>
              <a:chExt cx="6680520" cy="3003120"/>
            </a:xfrm>
          </p:grpSpPr>
          <p:sp>
            <p:nvSpPr>
              <p:cNvPr id="46" name="Line 50"/>
              <p:cNvSpPr/>
              <p:nvPr/>
            </p:nvSpPr>
            <p:spPr>
              <a:xfrm flipH="1">
                <a:off x="3597480" y="7054920"/>
                <a:ext cx="2077560" cy="2797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Line 51"/>
              <p:cNvSpPr/>
              <p:nvPr/>
            </p:nvSpPr>
            <p:spPr>
              <a:xfrm flipH="1">
                <a:off x="820080" y="8782920"/>
                <a:ext cx="966600" cy="1275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Line 52"/>
              <p:cNvSpPr/>
              <p:nvPr/>
            </p:nvSpPr>
            <p:spPr>
              <a:xfrm>
                <a:off x="6045840" y="8052480"/>
                <a:ext cx="915480" cy="977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Line 53"/>
              <p:cNvSpPr/>
              <p:nvPr/>
            </p:nvSpPr>
            <p:spPr>
              <a:xfrm>
                <a:off x="1787400" y="7805880"/>
                <a:ext cx="822600" cy="1696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Line 54"/>
              <p:cNvSpPr/>
              <p:nvPr/>
            </p:nvSpPr>
            <p:spPr>
              <a:xfrm>
                <a:off x="2838960" y="7250400"/>
                <a:ext cx="424440" cy="2602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Text Box 55"/>
              <p:cNvSpPr/>
              <p:nvPr/>
            </p:nvSpPr>
            <p:spPr>
              <a:xfrm>
                <a:off x="1566360" y="9065880"/>
                <a:ext cx="6886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Text Box 56"/>
              <p:cNvSpPr/>
              <p:nvPr/>
            </p:nvSpPr>
            <p:spPr>
              <a:xfrm>
                <a:off x="1921320" y="7912440"/>
                <a:ext cx="687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4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Text Box 57"/>
              <p:cNvSpPr/>
              <p:nvPr/>
            </p:nvSpPr>
            <p:spPr>
              <a:xfrm>
                <a:off x="1711440" y="8197920"/>
                <a:ext cx="687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5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Text Box 58"/>
              <p:cNvSpPr/>
              <p:nvPr/>
            </p:nvSpPr>
            <p:spPr>
              <a:xfrm>
                <a:off x="995400" y="9391320"/>
                <a:ext cx="6886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Text Box 59"/>
              <p:cNvSpPr/>
              <p:nvPr/>
            </p:nvSpPr>
            <p:spPr>
              <a:xfrm>
                <a:off x="1346400" y="9277920"/>
                <a:ext cx="687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Text Box 60"/>
              <p:cNvSpPr/>
              <p:nvPr/>
            </p:nvSpPr>
            <p:spPr>
              <a:xfrm>
                <a:off x="2003400" y="8134920"/>
                <a:ext cx="689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6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Text Box 61"/>
              <p:cNvSpPr/>
              <p:nvPr/>
            </p:nvSpPr>
            <p:spPr>
              <a:xfrm>
                <a:off x="2148480" y="8930880"/>
                <a:ext cx="6915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7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Text Box 62"/>
              <p:cNvSpPr/>
              <p:nvPr/>
            </p:nvSpPr>
            <p:spPr>
              <a:xfrm>
                <a:off x="2399400" y="8901360"/>
                <a:ext cx="689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8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Text Box 63"/>
              <p:cNvSpPr/>
              <p:nvPr/>
            </p:nvSpPr>
            <p:spPr>
              <a:xfrm>
                <a:off x="2265840" y="9177840"/>
                <a:ext cx="687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9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Text Box 64"/>
              <p:cNvSpPr/>
              <p:nvPr/>
            </p:nvSpPr>
            <p:spPr>
              <a:xfrm>
                <a:off x="2495880" y="9123840"/>
                <a:ext cx="687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Text Box 65"/>
              <p:cNvSpPr/>
              <p:nvPr/>
            </p:nvSpPr>
            <p:spPr>
              <a:xfrm>
                <a:off x="2661840" y="7800480"/>
                <a:ext cx="6886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90°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Text Box 66"/>
              <p:cNvSpPr/>
              <p:nvPr/>
            </p:nvSpPr>
            <p:spPr>
              <a:xfrm>
                <a:off x="3006360" y="7752960"/>
                <a:ext cx="6886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1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Text Box 67"/>
              <p:cNvSpPr/>
              <p:nvPr/>
            </p:nvSpPr>
            <p:spPr>
              <a:xfrm>
                <a:off x="2743920" y="8051400"/>
                <a:ext cx="689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Text Box 68"/>
              <p:cNvSpPr/>
              <p:nvPr/>
            </p:nvSpPr>
            <p:spPr>
              <a:xfrm>
                <a:off x="3036960" y="8022960"/>
                <a:ext cx="689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Text Box 69"/>
              <p:cNvSpPr/>
              <p:nvPr/>
            </p:nvSpPr>
            <p:spPr>
              <a:xfrm>
                <a:off x="2840400" y="7503480"/>
                <a:ext cx="687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4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Text Box 70"/>
              <p:cNvSpPr/>
              <p:nvPr/>
            </p:nvSpPr>
            <p:spPr>
              <a:xfrm>
                <a:off x="3183840" y="8784000"/>
                <a:ext cx="689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5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Text Box 71"/>
              <p:cNvSpPr/>
              <p:nvPr/>
            </p:nvSpPr>
            <p:spPr>
              <a:xfrm>
                <a:off x="2840400" y="9123840"/>
                <a:ext cx="687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6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Text Box 72"/>
              <p:cNvSpPr/>
              <p:nvPr/>
            </p:nvSpPr>
            <p:spPr>
              <a:xfrm>
                <a:off x="3263760" y="9065880"/>
                <a:ext cx="6886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7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Text Box 73"/>
              <p:cNvSpPr/>
              <p:nvPr/>
            </p:nvSpPr>
            <p:spPr>
              <a:xfrm>
                <a:off x="5068800" y="7394400"/>
                <a:ext cx="6886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8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Text Box 74"/>
              <p:cNvSpPr/>
              <p:nvPr/>
            </p:nvSpPr>
            <p:spPr>
              <a:xfrm>
                <a:off x="5413320" y="7363440"/>
                <a:ext cx="6886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9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Text Box 75"/>
              <p:cNvSpPr/>
              <p:nvPr/>
            </p:nvSpPr>
            <p:spPr>
              <a:xfrm>
                <a:off x="4893840" y="7642440"/>
                <a:ext cx="689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Text Box 76"/>
              <p:cNvSpPr/>
              <p:nvPr/>
            </p:nvSpPr>
            <p:spPr>
              <a:xfrm>
                <a:off x="4118400" y="8596440"/>
                <a:ext cx="687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1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Text Box 77"/>
              <p:cNvSpPr/>
              <p:nvPr/>
            </p:nvSpPr>
            <p:spPr>
              <a:xfrm>
                <a:off x="4538880" y="8559360"/>
                <a:ext cx="689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Text Box 78"/>
              <p:cNvSpPr/>
              <p:nvPr/>
            </p:nvSpPr>
            <p:spPr>
              <a:xfrm>
                <a:off x="3952800" y="8919000"/>
                <a:ext cx="689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Text Box 79"/>
              <p:cNvSpPr/>
              <p:nvPr/>
            </p:nvSpPr>
            <p:spPr>
              <a:xfrm>
                <a:off x="4297320" y="8843400"/>
                <a:ext cx="689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4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Text Box 80"/>
              <p:cNvSpPr/>
              <p:nvPr/>
            </p:nvSpPr>
            <p:spPr>
              <a:xfrm>
                <a:off x="6441840" y="8245440"/>
                <a:ext cx="689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5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Text Box 81"/>
              <p:cNvSpPr/>
              <p:nvPr/>
            </p:nvSpPr>
            <p:spPr>
              <a:xfrm>
                <a:off x="6272280" y="8530920"/>
                <a:ext cx="689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6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Text Box 82"/>
              <p:cNvSpPr/>
              <p:nvPr/>
            </p:nvSpPr>
            <p:spPr>
              <a:xfrm>
                <a:off x="6616800" y="8440920"/>
                <a:ext cx="689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7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" name="Group 83"/>
              <p:cNvGrpSpPr/>
              <p:nvPr/>
            </p:nvGrpSpPr>
            <p:grpSpPr>
              <a:xfrm>
                <a:off x="625320" y="8245440"/>
                <a:ext cx="195120" cy="221760"/>
                <a:chOff x="625320" y="8245440"/>
                <a:chExt cx="195120" cy="221760"/>
              </a:xfrm>
            </p:grpSpPr>
            <p:sp>
              <p:nvSpPr>
                <p:cNvPr id="80" name="Line 84"/>
                <p:cNvSpPr/>
                <p:nvPr/>
              </p:nvSpPr>
              <p:spPr>
                <a:xfrm>
                  <a:off x="625320" y="8245440"/>
                  <a:ext cx="195120" cy="111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" name="Line 85"/>
                <p:cNvSpPr/>
                <p:nvPr/>
              </p:nvSpPr>
              <p:spPr>
                <a:xfrm flipH="1">
                  <a:off x="625320" y="8356680"/>
                  <a:ext cx="195120" cy="110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2" name="Group 86"/>
              <p:cNvGrpSpPr/>
              <p:nvPr/>
            </p:nvGrpSpPr>
            <p:grpSpPr>
              <a:xfrm>
                <a:off x="645120" y="9304920"/>
                <a:ext cx="195840" cy="221760"/>
                <a:chOff x="645120" y="9304920"/>
                <a:chExt cx="195840" cy="221760"/>
              </a:xfrm>
            </p:grpSpPr>
            <p:sp>
              <p:nvSpPr>
                <p:cNvPr id="83" name="Line 87"/>
                <p:cNvSpPr/>
                <p:nvPr/>
              </p:nvSpPr>
              <p:spPr>
                <a:xfrm>
                  <a:off x="645480" y="9304920"/>
                  <a:ext cx="195480" cy="111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" name="Line 88"/>
                <p:cNvSpPr/>
                <p:nvPr/>
              </p:nvSpPr>
              <p:spPr>
                <a:xfrm flipH="1">
                  <a:off x="645120" y="9416160"/>
                  <a:ext cx="195480" cy="110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" name="Line 89"/>
              <p:cNvSpPr/>
              <p:nvPr/>
            </p:nvSpPr>
            <p:spPr>
              <a:xfrm flipV="1">
                <a:off x="2954880" y="7363440"/>
                <a:ext cx="308520" cy="597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6" name="Text Box 90"/>
          <p:cNvSpPr/>
          <p:nvPr/>
        </p:nvSpPr>
        <p:spPr>
          <a:xfrm>
            <a:off x="3886200" y="5257800"/>
            <a:ext cx="3048120" cy="25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ollowing are examples of adjacent angl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.  &lt;4 &amp; &lt;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7.  &lt;8 &amp; &lt;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.  &lt;22 &amp; &lt;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ollowing are examples of linear pair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.  &lt;26 &amp; &lt;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.  &lt;7 &amp; &lt;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23"/>
          <p:cNvSpPr/>
          <p:nvPr/>
        </p:nvSpPr>
        <p:spPr>
          <a:xfrm>
            <a:off x="228600" y="304920"/>
            <a:ext cx="7315200" cy="87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ctivity: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ertical Ang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wo lines intersect, four angles are formed.  These angles have special relationships because any two adjacent angles form a linear pai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what you know about angles to find the measures of the missing angles in Example 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m&lt;1 = 65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°, then m&lt;2 = _____, m&lt;3 = _____, and m&lt;4 = _____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ook at the angles that are NOT adjacent, such as &lt;4 and &lt;2.  These angles are across from each other when two lines intersect.  These are called vertical ang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What do you think has to be true about vertical angl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________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o see if you are right, let m&lt;1 = x° in Example 2.  Then find the measure of &lt;2 and &lt;3 in terms of x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&lt;2 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&lt;3 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What can you conclude about m&lt;1 and m&lt;3? 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What have you proved about vertical angl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Group 5"/>
          <p:cNvGrpSpPr/>
          <p:nvPr/>
        </p:nvGrpSpPr>
        <p:grpSpPr>
          <a:xfrm>
            <a:off x="380880" y="2133720"/>
            <a:ext cx="1629720" cy="1828800"/>
            <a:chOff x="380880" y="2133720"/>
            <a:chExt cx="1629720" cy="1828800"/>
          </a:xfrm>
        </p:grpSpPr>
        <p:grpSp>
          <p:nvGrpSpPr>
            <p:cNvPr id="89" name="Group 6"/>
            <p:cNvGrpSpPr/>
            <p:nvPr/>
          </p:nvGrpSpPr>
          <p:grpSpPr>
            <a:xfrm>
              <a:off x="673920" y="2133720"/>
              <a:ext cx="1336680" cy="1828800"/>
              <a:chOff x="673920" y="2133720"/>
              <a:chExt cx="1336680" cy="1828800"/>
            </a:xfrm>
          </p:grpSpPr>
          <p:sp>
            <p:nvSpPr>
              <p:cNvPr id="90" name="Line 7"/>
              <p:cNvSpPr/>
              <p:nvPr/>
            </p:nvSpPr>
            <p:spPr>
              <a:xfrm>
                <a:off x="896760" y="2133720"/>
                <a:ext cx="824760" cy="1828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Line 8"/>
              <p:cNvSpPr/>
              <p:nvPr/>
            </p:nvSpPr>
            <p:spPr>
              <a:xfrm flipH="1">
                <a:off x="673920" y="2133720"/>
                <a:ext cx="1336680" cy="1819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Text Box 9"/>
              <p:cNvSpPr/>
              <p:nvPr/>
            </p:nvSpPr>
            <p:spPr>
              <a:xfrm>
                <a:off x="1247760" y="2724480"/>
                <a:ext cx="2379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Text Box 10"/>
              <p:cNvSpPr/>
              <p:nvPr/>
            </p:nvSpPr>
            <p:spPr>
              <a:xfrm>
                <a:off x="1366560" y="2939040"/>
                <a:ext cx="2368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Text Box 11"/>
              <p:cNvSpPr/>
              <p:nvPr/>
            </p:nvSpPr>
            <p:spPr>
              <a:xfrm>
                <a:off x="1189800" y="3192480"/>
                <a:ext cx="2379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Text Box 12"/>
              <p:cNvSpPr/>
              <p:nvPr/>
            </p:nvSpPr>
            <p:spPr>
              <a:xfrm>
                <a:off x="1058040" y="2939040"/>
                <a:ext cx="2368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4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6" name="Text Box 13"/>
            <p:cNvSpPr/>
            <p:nvPr/>
          </p:nvSpPr>
          <p:spPr>
            <a:xfrm>
              <a:off x="380880" y="2133720"/>
              <a:ext cx="677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x 1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Group 14"/>
          <p:cNvGrpSpPr/>
          <p:nvPr/>
        </p:nvGrpSpPr>
        <p:grpSpPr>
          <a:xfrm>
            <a:off x="5562720" y="6858000"/>
            <a:ext cx="1629720" cy="1828800"/>
            <a:chOff x="5562720" y="6858000"/>
            <a:chExt cx="1629720" cy="1828800"/>
          </a:xfrm>
        </p:grpSpPr>
        <p:grpSp>
          <p:nvGrpSpPr>
            <p:cNvPr id="98" name="Group 15"/>
            <p:cNvGrpSpPr/>
            <p:nvPr/>
          </p:nvGrpSpPr>
          <p:grpSpPr>
            <a:xfrm>
              <a:off x="5856120" y="6858000"/>
              <a:ext cx="1336320" cy="1828800"/>
              <a:chOff x="5856120" y="6858000"/>
              <a:chExt cx="1336320" cy="1828800"/>
            </a:xfrm>
          </p:grpSpPr>
          <p:sp>
            <p:nvSpPr>
              <p:cNvPr id="99" name="Line 16"/>
              <p:cNvSpPr/>
              <p:nvPr/>
            </p:nvSpPr>
            <p:spPr>
              <a:xfrm>
                <a:off x="6078600" y="6858000"/>
                <a:ext cx="824400" cy="1828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Line 17"/>
              <p:cNvSpPr/>
              <p:nvPr/>
            </p:nvSpPr>
            <p:spPr>
              <a:xfrm flipH="1">
                <a:off x="5856120" y="6858000"/>
                <a:ext cx="1336320" cy="1819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 Box 18"/>
              <p:cNvSpPr/>
              <p:nvPr/>
            </p:nvSpPr>
            <p:spPr>
              <a:xfrm>
                <a:off x="6429600" y="7448760"/>
                <a:ext cx="2379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Text Box 19"/>
              <p:cNvSpPr/>
              <p:nvPr/>
            </p:nvSpPr>
            <p:spPr>
              <a:xfrm>
                <a:off x="6548040" y="7663320"/>
                <a:ext cx="2368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Text Box 20"/>
              <p:cNvSpPr/>
              <p:nvPr/>
            </p:nvSpPr>
            <p:spPr>
              <a:xfrm>
                <a:off x="6371640" y="7916760"/>
                <a:ext cx="2379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 Box 21"/>
              <p:cNvSpPr/>
              <p:nvPr/>
            </p:nvSpPr>
            <p:spPr>
              <a:xfrm>
                <a:off x="6239880" y="7663320"/>
                <a:ext cx="2368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4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" name="Text Box 22"/>
            <p:cNvSpPr/>
            <p:nvPr/>
          </p:nvSpPr>
          <p:spPr>
            <a:xfrm>
              <a:off x="5562720" y="6858000"/>
              <a:ext cx="677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x 2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4T13:08:23Z</dcterms:created>
  <dc:creator> </dc:creator>
  <dc:description/>
  <dc:language>en-US</dc:language>
  <cp:lastModifiedBy>Administratr</cp:lastModifiedBy>
  <dcterms:modified xsi:type="dcterms:W3CDTF">2010-08-06T00:53:22Z</dcterms:modified>
  <cp:revision>8</cp:revision>
  <dc:subject/>
  <dc:title>Slide 1</dc:title>
</cp:coreProperties>
</file>